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26767"/>
        <c:axId val="27347419"/>
      </c:barChart>
      <c:catAx>
        <c:axId val="87226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47419"/>
        <c:crosses val="autoZero"/>
        <c:auto val="1"/>
        <c:lblAlgn val="ctr"/>
        <c:lblOffset val="100"/>
        <c:noMultiLvlLbl val="0"/>
      </c:catAx>
      <c:valAx>
        <c:axId val="27347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26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1CA-E864-49F3-9CE7-F92862CA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AD3-406C-44F6-81E3-5BDD2137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CC4-77A5-44D8-B011-96232185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3A5-8BF0-48C0-B485-B37A327B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57F-8F1B-4BE2-BFE8-CA4B12D9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D91-FA15-462B-A12A-3E70A9FB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485-092B-4417-8757-B66FF63E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68C-307F-4AB3-BF53-A71FC2C6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084-B360-4C3C-A8FC-AAE93A60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93F-CEA6-4767-B6C8-8C317515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E58-6B80-48A6-AA09-ACEC5733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E10-CA55-49A0-AEED-77FAFD7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6BD6B-7785-406D-BEEA-218F70A993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