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341021"/>
        <c:axId val="11448364"/>
      </c:barChart>
      <c:catAx>
        <c:axId val="69341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48364"/>
        <c:crosses val="autoZero"/>
        <c:auto val="1"/>
        <c:lblAlgn val="ctr"/>
        <c:lblOffset val="100"/>
        <c:noMultiLvlLbl val="0"/>
      </c:catAx>
      <c:valAx>
        <c:axId val="114483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41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867-1F1E-4012-8F21-5ADA9E19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5FED-2736-403B-BECD-F82BD69C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CD6-CD04-4B21-8905-CFE086E9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79B-09FB-40F7-B74A-389BE8C5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988-E443-4920-9DC8-111428D1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54A3-8231-4678-A42C-F289B54B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8F0-54AE-4DF7-BFB3-74C00F38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A2E-77C5-4075-9D2E-203E720A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ED53-C432-4E8B-AD43-DF70E615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BA9-0EA9-4109-94E3-EC945AB1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86E-46FF-44F0-A7F2-23292C0B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633-C021-4352-A584-D3064F5A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93D47-07D4-4D05-B710-FD8E456BCB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