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22242"/>
        <c:axId val="57800142"/>
      </c:barChart>
      <c:catAx>
        <c:axId val="68822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0142"/>
        <c:crosses val="autoZero"/>
        <c:auto val="1"/>
        <c:lblAlgn val="ctr"/>
        <c:lblOffset val="100"/>
        <c:noMultiLvlLbl val="0"/>
      </c:catAx>
      <c:valAx>
        <c:axId val="57800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22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23A-F5E0-4428-9E72-B8F48013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452-7494-47D0-9EF9-741C5659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AE7-D0E5-425B-8B04-4F6B5487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9BF-F885-4F44-A83F-52E73B95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EF3-BDDF-4DCC-9FF3-1BDEDF8C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454-66F4-41BC-98CA-B905C3E3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D8F-1387-4287-8DB1-7205869A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6CC-B3E0-4F9B-87C6-5682B6B9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DA4-C725-44A0-A16C-B6D4E6E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ABA-9176-4134-B009-F5F7D3AE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3C3-3C32-4819-ABF0-2104D8EC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36A-306D-49AF-8685-9DA7D0C9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DA0FB-6540-47AE-9F31-4E346C92E9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