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47678"/>
        <c:axId val="28028170"/>
      </c:barChart>
      <c:catAx>
        <c:axId val="22247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28170"/>
        <c:crosses val="autoZero"/>
        <c:auto val="1"/>
        <c:lblAlgn val="ctr"/>
        <c:lblOffset val="100"/>
        <c:noMultiLvlLbl val="0"/>
      </c:catAx>
      <c:valAx>
        <c:axId val="28028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47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065-2A60-490B-A9A0-ABA57466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887-FDDE-4A00-8711-03A19109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9AA-DA58-4C89-A837-91BE667A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F49-54C5-41D2-93E6-BF434418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BAC-75FC-401E-B474-201C006E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4C3-6095-4449-9913-4471975D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2CB-AE49-414D-9177-5DF68B63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11F-F80E-49E6-8832-2D49D6C1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79B-E92D-435B-9F34-CCFA4E4B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250-AB08-4171-9969-0320AF2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2CF-14A8-4863-A12B-F814734B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E03-FCE4-4A85-A24F-E45BEBBF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D6C13-B48B-4898-99C5-04FD7FFB1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